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A71B-59EB-4FD5-995C-4B035FF33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C990-0442-467E-A68C-87D5EF10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C404-3F12-4B32-945D-14ECDA6A6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387D-7BB6-4897-8E2F-4FCB88DA3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4350A-AF81-439E-BD2C-73AEDD9FE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2AF3-7FFE-475F-8FCB-CC0788F6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6B04-44BC-420F-9E5C-5D2D5D28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BE5A-71C8-4276-8242-49B7EE2E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1182-1710-4290-A63D-D473E25B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46F3-A0E2-4BF3-AD6F-CD4EC933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80AAF-366E-4FE1-B197-E4CB2B51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FC84-0787-4724-8CF3-5DE79B4F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9054-D7A7-4FD5-9DEB-DCEB4F07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0F943-9408-4B01-80FF-13A9EC25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CD40-9B68-482D-8555-EBE949A1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0B87D-8D17-4DC3-8A79-B777CCDDB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EF4D-5B81-43FF-8C59-B0AA67560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0449-643D-463E-AB8A-696BDA37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6DFB-BD44-4206-9EB8-391896D1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3BCF-26B0-4779-9015-0418251B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C529-1EE3-4014-A007-4D0CE0DD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458E-17AC-49F9-976E-399F3CE1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2624-C7E7-4F7D-98A4-9F02C2BB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73B0-AF83-4E2D-9BD5-4C230316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1A80-B40C-4163-AA67-E71E253AD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FD24-1129-4108-8B7A-69606CE00F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b7"/>
                </a:solidFill>
                <a:latin typeface="Monotype Corsiva"/>
              </a:rPr>
              <a:t>Folktales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By Group Storybi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Monotype Corsiva"/>
              </a:rPr>
              <a:t>Familiar Folkta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lbertus"/>
              </a:rPr>
              <a:t>Jack and the Beanstalk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lbertus"/>
              </a:rPr>
              <a:t>Babe the Blue Ox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lbertus"/>
              </a:rPr>
              <a:t>Three Billy Goats Gruff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lbertus"/>
              </a:rPr>
              <a:t>Paul Bunya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lbertus"/>
              </a:rPr>
              <a:t>Pecos Bil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JackAndTheBeanstalk"/>
          <p:cNvPicPr/>
          <p:nvPr/>
        </p:nvPicPr>
        <p:blipFill>
          <a:blip r:embed="rId1"/>
          <a:stretch/>
        </p:blipFill>
        <p:spPr>
          <a:xfrm>
            <a:off x="5105520" y="1752480"/>
            <a:ext cx="359388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Monotype Corsiva"/>
              </a:rPr>
              <a:t>Familiar Folktales</a:t>
            </a:r>
            <a:br>
              <a:rPr sz="4400"/>
            </a:br>
            <a:r>
              <a:rPr b="1" lang="en-US" sz="1600" spc="-1" strike="noStrike">
                <a:solidFill>
                  <a:srgbClr val="ffffb7"/>
                </a:solidFill>
                <a:latin typeface="Albertus"/>
              </a:rPr>
              <a:t>Examine the following folktales from different countries at  </a:t>
            </a:r>
            <a:r>
              <a:rPr b="0" lang="en-US" sz="1600" spc="-1" strike="noStrike" u="sng">
                <a:solidFill>
                  <a:srgbClr val="ffffb7"/>
                </a:solidFill>
                <a:uFillTx/>
                <a:latin typeface="Albertus"/>
              </a:rPr>
              <a:t>www.worldoftales.com</a:t>
            </a:r>
            <a:endParaRPr b="1" lang="en-US" sz="1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810240" cy="41907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lbertus"/>
              </a:rPr>
              <a:t>European Folktal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lbertus"/>
              </a:rPr>
              <a:t>The Tale of the Snow and the Stee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lbertus"/>
              </a:rPr>
              <a:t>The Nightinga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lbertus"/>
              </a:rPr>
              <a:t>African Folktales</a:t>
            </a:r>
            <a:r>
              <a:rPr b="0" lang="en-US" sz="1800" spc="-1" strike="noStrike">
                <a:solidFill>
                  <a:srgbClr val="ffffff"/>
                </a:solidFill>
                <a:latin typeface="Albertus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lbertus"/>
              </a:rPr>
              <a:t>The Leopard M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lbertus"/>
              </a:rPr>
              <a:t>The Man who Never Li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lbertus"/>
              </a:rPr>
              <a:t>Asian Folkt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lbertus"/>
              </a:rPr>
              <a:t>The Four Dragons</a:t>
            </a:r>
            <a:r>
              <a:rPr b="0" lang="en-US" sz="1800" spc="-1" strike="noStrike">
                <a:solidFill>
                  <a:srgbClr val="ffffff"/>
                </a:solidFill>
                <a:latin typeface="Albertus"/>
              </a:rPr>
              <a:t> (Chines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lbertus"/>
              </a:rPr>
              <a:t>The Herb</a:t>
            </a:r>
            <a:r>
              <a:rPr b="0" lang="en-US" sz="1800" spc="-1" strike="noStrike">
                <a:solidFill>
                  <a:srgbClr val="ffffff"/>
                </a:solidFill>
                <a:latin typeface="Albertus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lbertus"/>
              </a:rPr>
              <a:t>“mega</a:t>
            </a:r>
            <a:r>
              <a:rPr b="0" lang="en-US" sz="1800" spc="-1" strike="noStrike">
                <a:solidFill>
                  <a:srgbClr val="ffffff"/>
                </a:solidFill>
                <a:latin typeface="Albertus"/>
              </a:rPr>
              <a:t>” (Japanes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4876920" y="1905120"/>
            <a:ext cx="3809880" cy="25628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lbertus"/>
              </a:rPr>
              <a:t>Native American Folktal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lbertus"/>
              </a:rPr>
              <a:t>How the Turkey got His Be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lbertus"/>
              </a:rPr>
              <a:t>Climbing the Mount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lbertus"/>
              </a:rPr>
              <a:t>South American Folkt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lbertus"/>
              </a:rPr>
              <a:t>How the Monkey Became a Trick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lbertus"/>
              </a:rPr>
              <a:t>Why the Lamb is Me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http://www.racematters.org/assets/FavoriteAfricanFolktales.jpg"/>
          <p:cNvPicPr/>
          <p:nvPr/>
        </p:nvPicPr>
        <p:blipFill>
          <a:blip r:embed="rId1"/>
          <a:stretch/>
        </p:blipFill>
        <p:spPr>
          <a:xfrm>
            <a:off x="5867280" y="4343400"/>
            <a:ext cx="19814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Monotype Corsiva"/>
              </a:rPr>
              <a:t>Folktale Websit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07120" cy="41911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lbertus"/>
              </a:rPr>
              <a:t>World of T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lbertu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lbertus"/>
              </a:rPr>
              <a:t>http://worldoftale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lbertus"/>
              </a:rPr>
              <a:t>Folktales, Fables, and Legends for K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lbertus"/>
              </a:rPr>
              <a:t>http://www.pitara.com/talespin/folktales.as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lbertus"/>
              </a:rPr>
              <a:t>Folktales from around the wor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lbertus"/>
              </a:rPr>
              <a:t>http://www.unc.edu/~rwilkers/title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Monotype Corsiva"/>
              </a:rPr>
              <a:t>Assignmen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07480" cy="5638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lbertus"/>
              </a:rPr>
              <a:t>Review the four types of folktales, and the elements that make up eac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lbertus"/>
              </a:rPr>
              <a:t>Explore the Folktale websites and find a folktale that you would like to “modernize” by updating the setting, characters, and langua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lbertus"/>
              </a:rPr>
              <a:t>Log onto the Libs6960 Storybird page with the username </a:t>
            </a:r>
            <a:r>
              <a:rPr b="0" lang="en-US" sz="1400" spc="-1" strike="noStrike">
                <a:solidFill>
                  <a:srgbClr val="d1ff47"/>
                </a:solidFill>
                <a:latin typeface="Albertus"/>
              </a:rPr>
              <a:t>“6960” </a:t>
            </a:r>
            <a:r>
              <a:rPr b="0" lang="en-US" sz="1400" spc="-1" strike="noStrike">
                <a:solidFill>
                  <a:srgbClr val="ffffff"/>
                </a:solidFill>
                <a:latin typeface="Albertus"/>
              </a:rPr>
              <a:t>and the password </a:t>
            </a:r>
            <a:r>
              <a:rPr b="0" lang="en-US" sz="1400" spc="-1" strike="noStrike">
                <a:solidFill>
                  <a:srgbClr val="d1ff47"/>
                </a:solidFill>
                <a:latin typeface="Albertus"/>
              </a:rPr>
              <a:t>“storybird.” </a:t>
            </a:r>
            <a:r>
              <a:rPr b="0" lang="en-US" sz="1400" spc="-1" strike="noStrike">
                <a:solidFill>
                  <a:srgbClr val="ffffff"/>
                </a:solidFill>
                <a:latin typeface="Albertus"/>
              </a:rPr>
              <a:t>You will use Storybird to create your modern day version of the folktale you choos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lbertus"/>
              </a:rPr>
              <a:t>The title of your story should include your last name and the folktale you are rewriting (ex.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lbertus"/>
              </a:rPr>
              <a:t>John Smith_Little Red Riding Hood in the Hood</a:t>
            </a:r>
            <a:r>
              <a:rPr b="0" lang="en-US" sz="1400" spc="-1" strike="noStrike">
                <a:solidFill>
                  <a:srgbClr val="ffffff"/>
                </a:solidFill>
                <a:latin typeface="Albertus"/>
              </a:rPr>
              <a:t>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lbertus"/>
              </a:rPr>
              <a:t>The title page of your Storybird should include the following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1ff47"/>
                </a:solidFill>
                <a:latin typeface="Albertus"/>
              </a:rPr>
              <a:t>First and Last 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1ff47"/>
                </a:solidFill>
                <a:latin typeface="Albertus"/>
              </a:rPr>
              <a:t>Title of your Folktale (you may include an optional subtitle that describes your updated versio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1ff47"/>
                </a:solidFill>
                <a:latin typeface="Albertus"/>
              </a:rPr>
              <a:t>Type of folktale (Fairy tale, Fable, Porquoi, or Trickst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1ff47"/>
                </a:solidFill>
                <a:latin typeface="Albertus"/>
              </a:rPr>
              <a:t>Country of Orig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lbertus"/>
              </a:rPr>
              <a:t>Your Storybird folktale should be enhanced with artwork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lbertus"/>
              </a:rPr>
              <a:t>Review the Rubric to make sure your folktale includes all of the necessary elem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Monotype Corsiva"/>
              </a:rPr>
              <a:t>Rubric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7480" cy="45720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33520" y="1295280"/>
          <a:ext cx="8153280" cy="4913280"/>
        </p:xfrm>
        <a:graphic>
          <a:graphicData uri="http://schemas.openxmlformats.org/drawingml/2006/table">
            <a:tbl>
              <a:tblPr/>
              <a:tblGrid>
                <a:gridCol w="3198600"/>
                <a:gridCol w="3407040"/>
                <a:gridCol w="309240"/>
                <a:gridCol w="309600"/>
                <a:gridCol w="309600"/>
                <a:gridCol w="309600"/>
                <a:gridCol w="309600"/>
              </a:tblGrid>
              <a:tr h="254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andar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udent Expect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82680">
                <a:tc rowSpan="4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1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. Write narratives to develop real or imagined experiences or events using effective technique, relevant descriptive details, and well-structured event sequences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Demonstrates an understanding of folktales (through the creation of a Storybird)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  <a:tr h="38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Includes all of the required elements on the title page of the folktale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Creates a complete story with a beginning, middle, and end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  <a:tr h="52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Shows originality in the modernization of characters and setting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  <a:tr h="424080"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a. Engage and orient the reader by establishing a context and point of view and introducing a narrator and/or characters; organize an event sequence that unfolds naturally and logically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Context and point of view are well established.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  <a:tr h="509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The role of the narrator/ characters is clearly defined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  <a:tr h="67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The plot is organized in such a way that events flow naturally and logically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  <a:tr h="425160"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3d. Use precise words and phrases, relevant descriptive details, and sensory language to capture the action and convey experiences and events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Story includes descriptive words and phrase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Characters are well-rounded, with dynamic voices and personalitie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  <a:tr h="34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Artwork is utilized to enhance the story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20574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b7"/>
                </a:solidFill>
                <a:latin typeface="Monotype Corsiva"/>
              </a:rPr>
              <a:t>The End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Monotype Corsiva"/>
              </a:rPr>
              <a:t>What are Folkta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This genre of literature grew form the oral tradition of story telling which have been there from for thousands of yea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Most of these stories deal with issues and  problems that all children can relate to no matter which part or culture of the world they come fr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Monotype Corsiva"/>
              </a:rPr>
              <a:t>Objectives for this Less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TLW examine the four different types of folktales, identify characteristics of each, and evaluate their importance in the cultures in which they were to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TLW use Storybird  (www.storybird.com) to rewrite a folktale, incorporating modern day settings, characters, and terminolo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Monotype Corsiva"/>
              </a:rPr>
              <a:t>Characteristics of Folkta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Passed down through oral traditions of ad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Stories about people’s l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Struggle with fear and anxie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Helped them cope with re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Common and familiar settings, with no traditional time/place limi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Uses unusual  events or humor to resolv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Everyday people and/or animals are charac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Usually have happy endings</a:t>
            </a: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Monotype Corsiva"/>
              </a:rPr>
              <a:t>Types of Folkta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F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Fairytales</a:t>
            </a: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Trickster t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Why “Porquoi” s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4" descr="2105944-L"/>
          <p:cNvPicPr/>
          <p:nvPr/>
        </p:nvPicPr>
        <p:blipFill>
          <a:blip r:embed="rId1"/>
          <a:stretch/>
        </p:blipFill>
        <p:spPr>
          <a:xfrm>
            <a:off x="5105520" y="1676520"/>
            <a:ext cx="359064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Monotype Corsiva"/>
              </a:rPr>
              <a:t>Trickster ta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One character, usually the protagonist is clever and devi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The protagonist causes problems for the other charac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Usually goes unpunish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Different cultures have specific tricks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Monotype Corsiva"/>
              </a:rPr>
              <a:t>Why “Porquoi” Stori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Explains WHY something is as it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Explains HOW things came to 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Monotype Corsiva"/>
              </a:rPr>
              <a:t>Fairyta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Include  good and bad charac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Magic and fantas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Usually has a hero or hero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Often begins with “Once upon a tim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Predictable endings “happily ever aft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Conflicts are resolved through kindness, courage, or intellig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Monotype Corsiva"/>
              </a:rPr>
              <a:t>Fab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Teaches a lesson or mo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hort s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Main characters are usually animals with human character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The moral is never stated direct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tress themes such as: the value of cooperation, looking at problems from different viewpoints, rewards if being satis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18:58:13Z</dcterms:created>
  <dc:creator>Diana</dc:creator>
  <dc:description/>
  <dc:language>en-US</dc:language>
  <cp:lastModifiedBy> </cp:lastModifiedBy>
  <dcterms:modified xsi:type="dcterms:W3CDTF">2011-11-15T15:47:13Z</dcterms:modified>
  <cp:revision>24</cp:revision>
  <dc:subject/>
  <dc:title>Folktales</dc:title>
</cp:coreProperties>
</file>